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A147-0017-419D-9DE8-0619E064B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th connect to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890E-C53D-4393-859A-0DC00D32C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different from a Mesa and a platea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8D79-03D9-4277-BE94-C14280026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different between plateau and but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B2B8-CF83-4E84-B85A-11B13589B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E1E-B735-4365-BA61-C969C9A9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5D9-2DD0-4D93-9BB4-20B9B5C7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203-6DAD-4B85-8EAE-D125C278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52F-E585-40F8-998F-FE1D206E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345-F3D4-40B2-85BB-B534C7BB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C43-6B80-4979-99B6-387C95B8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F3B-F280-4AAC-AF41-9F286E8E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C58-EA76-4E9D-B424-DC9E7AA9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89A-3161-46A5-BCE4-CF458DDA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44F-A6B0-498A-BC5A-AE66F253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C7A-8174-411F-8316-B6EA0B64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B88-69C2-46FF-BF5A-7C8C3974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E7BB-5199-43FF-A6D2-36A36A049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place in the desert made fertile by a steady supply of wat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6781680" y="3505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http://t1.gstatic.com/images?q=tbn:ANd9GcQseIPF8Bt8ePrGzg-8FWputGjieOFWeCb6gPIDD0NwC2PIB1FKcV40JeXXow"/>
          <p:cNvPicPr/>
          <p:nvPr/>
        </p:nvPicPr>
        <p:blipFill>
          <a:blip r:embed="rId1"/>
          <a:stretch/>
        </p:blipFill>
        <p:spPr>
          <a:xfrm>
            <a:off x="0" y="1600200"/>
            <a:ext cx="6248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strait similar to an isthmus?  Type the answer at the bottom where it says “Click to add not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" name="TextBox 10"/>
          <p:cNvSpPr/>
          <p:nvPr/>
        </p:nvSpPr>
        <p:spPr>
          <a:xfrm>
            <a:off x="3581280" y="3429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fornian FB"/>
              </a:rPr>
              <a:t>What is a large area of flat or nearly flat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Times New Roman"/>
              </a:rPr>
              <a:t>Pl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ttp://t0.gstatic.com/images?q=tbn:ANd9GcSRN8OvlBgrhcDk9OuuhYM8GyEPm5b7lcZqHEqq6YUVN2stmJWXZA"/>
          <p:cNvPicPr/>
          <p:nvPr/>
        </p:nvPicPr>
        <p:blipFill>
          <a:blip r:embed="rId1"/>
          <a:stretch/>
        </p:blipFill>
        <p:spPr>
          <a:xfrm>
            <a:off x="42840" y="1523880"/>
            <a:ext cx="6129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Perpetua"/>
              </a:rPr>
              <a:t>What is a point of land that extends into a river, lake, or ocean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324480" y="3505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://t0.gstatic.com/images?q=tbn:ANd9GcQHDEQ49ypKutlW7QIFhn82CSu2xkGPng_gxZeHFnBJDolsAN9jaQ"/>
          <p:cNvPicPr/>
          <p:nvPr/>
        </p:nvPicPr>
        <p:blipFill>
          <a:blip r:embed="rId1"/>
          <a:stretch/>
        </p:blipFill>
        <p:spPr>
          <a:xfrm>
            <a:off x="0" y="1905120"/>
            <a:ext cx="6172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Rockwell Condensed"/>
              </a:rPr>
              <a:t>What is the place where a river begins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781680" y="3505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99"/>
                </a:solidFill>
                <a:latin typeface="Times New Roman"/>
              </a:rPr>
              <a:t>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http://t1.gstatic.com/images?q=tbn:ANd9GcQjVbHe3gh-2HdLLbulO8BsGP1zwAqvJHRu3_Z4gzVqxxBfIqeu9Q"/>
          <p:cNvPicPr/>
          <p:nvPr/>
        </p:nvPicPr>
        <p:blipFill>
          <a:blip r:embed="rId1"/>
          <a:stretch/>
        </p:blipFill>
        <p:spPr>
          <a:xfrm>
            <a:off x="0" y="1600200"/>
            <a:ext cx="6172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What is a mountain created as liquid rock and ash erupt from the inside the earth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781680" y="3505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Rockwell Extra Bold"/>
              </a:rPr>
              <a:t>Vol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http://t2.gstatic.com/images?q=tbn:ANd9GcQeKy2txvLAA5R1XS1lfDzWvv_o7wlqBlAj2T1hvw1tLKpC7M-6zA"/>
          <p:cNvPicPr/>
          <p:nvPr/>
        </p:nvPicPr>
        <p:blipFill>
          <a:blip r:embed="rId1"/>
          <a:stretch/>
        </p:blipFill>
        <p:spPr>
          <a:xfrm>
            <a:off x="47520" y="1981080"/>
            <a:ext cx="6505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is a high, flat landform that rises steeply above the surrounding 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lat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http://t0.gstatic.com/images?q=tbn:ANd9GcQhnVY84twh_lzJcUw9EXFpjmry-vyMEBvjGZcao8pf0DB4n1HE"/>
          <p:cNvPicPr/>
          <p:nvPr/>
        </p:nvPicPr>
        <p:blipFill>
          <a:blip r:embed="rId1"/>
          <a:stretch/>
        </p:blipFill>
        <p:spPr>
          <a:xfrm>
            <a:off x="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What is a flat, low-lying land built up from soil carried downstream by a river and deposited at its mou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el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http://t0.gstatic.com/images?q=tbn:ANd9GcSKjO_vVtoP-Vf6USuQo3gWvAAPi3CkFs7GSLj0NyjHOCG_LJz8Gw"/>
          <p:cNvPicPr/>
          <p:nvPr/>
        </p:nvPicPr>
        <p:blipFill>
          <a:blip r:embed="rId1"/>
          <a:stretch/>
        </p:blipFill>
        <p:spPr>
          <a:xfrm>
            <a:off x="0" y="1981080"/>
            <a:ext cx="6248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What is a huge sheet of ice that moves slowly across the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Glac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http://t3.gstatic.com/images?q=tbn:ANd9GcR0FZ4N9IjPUunZavD7C2C-hHvv0hz79OxvQXyjErAgHJxJ_-Ue"/>
          <p:cNvPicPr/>
          <p:nvPr/>
        </p:nvPicPr>
        <p:blipFill>
          <a:blip r:embed="rId1"/>
          <a:stretch/>
        </p:blipFill>
        <p:spPr>
          <a:xfrm>
            <a:off x="0" y="1905120"/>
            <a:ext cx="6324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What is a very dry area where few plants gr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http://t2.gstatic.com/images?q=tbn:ANd9GcRej1VJjV44cOEqeDltI2fi2rd2kXztDaHTMbxja1KMploJ-y9k"/>
          <p:cNvPicPr/>
          <p:nvPr/>
        </p:nvPicPr>
        <p:blipFill>
          <a:blip r:embed="rId1"/>
          <a:stretch/>
        </p:blipFill>
        <p:spPr>
          <a:xfrm>
            <a:off x="0" y="1981080"/>
            <a:ext cx="6477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0:33:52Z</dcterms:modified>
  <cp:revision>33</cp:revision>
  <dc:subject/>
  <dc:title>PowerPoint Presentation</dc:title>
</cp:coreProperties>
</file>